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5155"/>
        <c:axId val="54393838"/>
      </c:barChart>
      <c:catAx>
        <c:axId val="7695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93838"/>
        <c:crosses val="autoZero"/>
        <c:auto val="1"/>
        <c:lblAlgn val="ctr"/>
        <c:lblOffset val="100"/>
        <c:noMultiLvlLbl val="0"/>
      </c:catAx>
      <c:valAx>
        <c:axId val="54393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7DA-BE3B-40EA-9EF5-F0FF69DF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573-FD2F-4368-B800-C64AEB06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766-0B69-4295-9C44-5B688ECA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280-025E-4BC5-B94A-952CC110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252-FCF9-49F7-94B8-DD44B411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7F4-B08D-4DD6-8204-BA0837F2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65F-A2FE-4527-A3AE-9C96593C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A8B-D5A0-4B66-9122-282254D8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0CA-0259-4688-8640-9D69A1EE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70A-1807-4081-9CB5-1E48884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00A-0F8B-4759-A081-E0E5520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C82-9FC8-48C9-86BA-351E1B0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D4E35-E2A6-42A1-8DAA-0E8ADA4C01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