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931685"/>
        <c:axId val="23642494"/>
      </c:barChart>
      <c:catAx>
        <c:axId val="229316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42494"/>
        <c:crosses val="autoZero"/>
        <c:auto val="1"/>
        <c:lblAlgn val="ctr"/>
        <c:lblOffset val="100"/>
        <c:noMultiLvlLbl val="0"/>
      </c:catAx>
      <c:valAx>
        <c:axId val="236424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316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EBBC-2BB8-4755-A648-AE122AE5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E5DA-E15A-46C5-BE63-CEE86ADF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F223-34DA-406A-A6F7-4BD2F2D7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7E98-D5E0-4D83-988D-F9D44EA1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1706-9627-4AB9-B21F-E5657851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C8DD-F61F-4342-A1F6-C40F6070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20B5-1CB1-41A1-BE11-C5F490E1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F3F5-4DB8-4A5C-B645-AA66A391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4DCB-2775-4319-AB4C-02511EAC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15C0-4056-497C-9E80-E1900062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913B-6BA5-4C3D-904D-5EAC22FE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6098-1F87-482A-AE26-9641B575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BB1BD-4FA7-4D20-9F82-5B187611AE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