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75884"/>
        <c:axId val="50479934"/>
      </c:barChart>
      <c:catAx>
        <c:axId val="3947588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79934"/>
        <c:crosses val="autoZero"/>
        <c:auto val="1"/>
        <c:lblAlgn val="ctr"/>
        <c:lblOffset val="100"/>
        <c:noMultiLvlLbl val="0"/>
      </c:catAx>
      <c:valAx>
        <c:axId val="5047993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7588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0C93-75DF-4A86-AB87-08204571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123ED-1675-4483-B246-1C097732F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90B5C-4E46-4EE8-A020-8D44DB53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FB47-9CC6-4D7A-B5B1-D551B74D8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F2FD7-16F6-4063-A431-25E7D90AD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5381-59F6-4F59-8FF9-C8CE52279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06AE-0E75-44C4-9873-1BE2EFD99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0476-D366-4CD9-83C3-58609650E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FFEF5-1FB6-44B9-A155-CD315663F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ED99-218C-4A08-8BBA-658F31573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BF8-6B0F-4297-BA4E-34BDBD8AD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9353-647C-4F6E-B264-73D3622D1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8AC47-14D9-46C3-808C-B828589383E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