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14603"/>
        <c:axId val="71518015"/>
      </c:barChart>
      <c:catAx>
        <c:axId val="66914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18015"/>
        <c:crosses val="autoZero"/>
        <c:auto val="1"/>
        <c:lblAlgn val="ctr"/>
        <c:lblOffset val="100"/>
        <c:noMultiLvlLbl val="0"/>
      </c:catAx>
      <c:valAx>
        <c:axId val="71518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14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77A-B07B-40B1-A3F5-CC029450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1C9-2B2E-4CD6-B4B5-9C1305B8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8F5-70AC-4F6B-A9F9-EE2AF002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13D-0591-4358-BF2C-B9CD58E7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A4F-FFDA-400F-BF6E-021D9BDB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502-73FA-499B-9395-A50A3CDD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D87-0392-4F67-B6DE-17847EEF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643-1928-4CAD-B9CE-F38A8C1E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463-0230-4690-B951-E6BF4D35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953-AA98-4B7A-8836-C7BE6CC8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E0E-25B2-4363-A9D8-F2E51C16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315-FBDB-42F9-8C48-024FB197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B8E37-64B1-45D1-9D69-95EF79171D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