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83341"/>
        <c:axId val="61407502"/>
      </c:barChart>
      <c:catAx>
        <c:axId val="92983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7502"/>
        <c:crosses val="autoZero"/>
        <c:auto val="1"/>
        <c:lblAlgn val="ctr"/>
        <c:lblOffset val="100"/>
        <c:noMultiLvlLbl val="0"/>
      </c:catAx>
      <c:valAx>
        <c:axId val="61407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3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E2A-97D0-4853-A508-954A63E3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474-EB17-4A81-8A94-C9D4031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B6E-B976-44F0-BE17-1B76CD4C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88F-76CB-4E65-85AB-53CBD2BE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FF9-ED6F-4A74-AEA7-AB40BE0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6B1-8E4B-4CFB-92CB-2187DE4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0E0-56E9-437C-BA09-85736703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37D-0378-4E0B-8ACA-E5F71D6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A4E-4AD2-4DC0-8DA3-CBA72DC9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566-97AB-48CC-B5D9-D051C36E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BCB-FD47-43D0-B2FB-CB26314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CFB-6897-4F30-8AF4-94FBD73D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A532-D511-40FC-8A0C-FFAC83FA1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