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10474"/>
        <c:axId val="54797200"/>
      </c:barChart>
      <c:catAx>
        <c:axId val="96110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97200"/>
        <c:crosses val="autoZero"/>
        <c:auto val="1"/>
        <c:lblAlgn val="ctr"/>
        <c:lblOffset val="100"/>
        <c:noMultiLvlLbl val="0"/>
      </c:catAx>
      <c:valAx>
        <c:axId val="54797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10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463-E335-413F-8B77-21A25EC6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0BF-4DCA-4BCC-B9F6-8D7842A5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8C9-1E57-4048-9A84-CBFE6212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537-22CD-4384-B810-E0B5AE1F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066-F929-4C07-9E82-8E58CF95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A56-15A4-45D8-94BA-625A8DE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FBC-DD7D-4C66-B448-E29C7DBE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9C4-BA1A-48BD-A955-49F3316C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01E-A5A7-4D7C-8370-7D9410B3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7F4-B5D9-4E94-846E-09AA3982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12F-2055-4C44-A6AA-C51C5BA7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056-D271-4028-8AE0-E5145C7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4D6D9-DD37-49BF-A24D-21FB165FA1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