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717639"/>
        <c:axId val="29893717"/>
      </c:barChart>
      <c:catAx>
        <c:axId val="647176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893717"/>
        <c:crosses val="autoZero"/>
        <c:auto val="1"/>
        <c:lblAlgn val="ctr"/>
        <c:lblOffset val="100"/>
        <c:noMultiLvlLbl val="0"/>
      </c:catAx>
      <c:valAx>
        <c:axId val="298937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7176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7BCB-2E7B-4E08-9C41-A8BA7F8A4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8D1E-FAD0-4BCF-A93A-762F01D8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52BB-662D-4DF2-87FF-58145E4BA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0465-CC79-4891-8527-9138D2369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78CE-2D95-41D4-BA62-4837A14D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7569-37F8-4532-9E88-A1B31904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8786-61F7-4970-AEF3-2B9A1359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9971-FD1A-4E24-B65A-5DC9A8D4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74E5-86CB-4E1B-8814-C201A100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1C3B-CFFB-422C-BDEB-31AED962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0939-2D74-474A-9D06-648B5EA2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EDDD-425A-4D94-9D29-32595E3F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D10FDF-915F-429B-A30F-88394F3904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