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226299"/>
        <c:axId val="24904754"/>
      </c:barChart>
      <c:catAx>
        <c:axId val="86226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04754"/>
        <c:crosses val="autoZero"/>
        <c:auto val="1"/>
        <c:lblAlgn val="ctr"/>
        <c:lblOffset val="100"/>
        <c:noMultiLvlLbl val="0"/>
      </c:catAx>
      <c:valAx>
        <c:axId val="249047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26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1DA-8F04-4008-9E22-23F58B80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86C-CD72-4B30-A623-9352453B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0A4-2D38-41D2-AE7C-18B30FB3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CEB-4A44-4FCF-A330-5238152A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BB0-D335-4F14-A7A1-0454611D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520-4591-4551-8ED1-8575296F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B74-CBC6-4152-BE91-60E36493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F5C9-759F-493C-940A-F5C1ADFB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238-B130-46B0-98B1-C49F67A4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5BB-8F8F-4784-BA7C-7750BAFD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5F48-248D-40E6-AC58-8BC568EB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12C-9FEE-427A-9703-F3D292A4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1115C-E668-40B1-8307-69D113587D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