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85722"/>
        <c:axId val="19011694"/>
      </c:barChart>
      <c:catAx>
        <c:axId val="21485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11694"/>
        <c:crosses val="autoZero"/>
        <c:auto val="1"/>
        <c:lblAlgn val="ctr"/>
        <c:lblOffset val="100"/>
        <c:noMultiLvlLbl val="0"/>
      </c:catAx>
      <c:valAx>
        <c:axId val="19011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85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018-7EBB-4352-9ED6-70F295B9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DB5-6BDB-4D6C-8590-4482FB4E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F31-67B4-4729-BB39-2A2CD4FD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1D2-CEE1-46EC-9894-ACBC7D58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A95-6EA8-4F0E-BDB2-79E85C8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E35-27A0-45A4-9AF4-D008C301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0BA-61A5-41E7-B6DF-73C1D46C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D2F-16FD-465D-9713-06ABCB4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72D-A389-40B9-A50F-3E812A64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C35-6187-4CE0-AF5E-1FE5CBAF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FCE-B667-4BB5-914E-9B2F4AD2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1FD-712C-4BC2-ABFB-93E95999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F5312-B20D-4083-981E-5AC53708E7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