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63089"/>
        <c:axId val="5227129"/>
      </c:barChart>
      <c:catAx>
        <c:axId val="28663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7129"/>
        <c:crosses val="autoZero"/>
        <c:auto val="1"/>
        <c:lblAlgn val="ctr"/>
        <c:lblOffset val="100"/>
        <c:noMultiLvlLbl val="0"/>
      </c:catAx>
      <c:valAx>
        <c:axId val="5227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63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FB6-B042-4768-AE0A-7E59F8C4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CBF-9FF8-4A5B-B425-958A297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971-02A2-44F0-9A52-436B13C8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5A7-E861-4D2E-9248-FEDE0026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820-C6F1-4739-9619-9BDD2705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AE2-C5B5-405C-BDFB-B90E38FC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BE4-6AA9-4EF9-A550-4D6D8BE9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94D-4350-4361-A5C1-464069FB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6BE-DBC9-4F62-8B6F-AB02A18A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534-B562-42AD-84B7-854760CD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05D-72E6-47E6-A582-7882F0B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E0F-3DFC-4F9C-8491-6A81A1C3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0D70C-2335-4060-A212-5939F2072A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