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105397"/>
        <c:axId val="41676440"/>
      </c:barChart>
      <c:catAx>
        <c:axId val="871053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76440"/>
        <c:crosses val="autoZero"/>
        <c:auto val="1"/>
        <c:lblAlgn val="ctr"/>
        <c:lblOffset val="100"/>
        <c:noMultiLvlLbl val="0"/>
      </c:catAx>
      <c:valAx>
        <c:axId val="416764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1053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629C-7735-475E-855D-56662DF18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AAA8-E60F-4D4D-B4EE-F72AD1F8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0BA3-3573-44DC-A0E0-7E63462DB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5F02-F2E5-45F7-8F08-7C812517A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282B-EC0A-441F-8321-A06E108B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6103-64AC-4831-B94F-73DA67D3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23D8-67B1-488C-8783-63500A14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7D52-F247-4B7E-B5E6-B6789533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E8E1-FEE1-419A-8956-67B3E848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B157-8F0E-4CA3-8D5F-25942F88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8213-3F36-4FC2-9324-2EE151AB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2C9A-9C5E-4ACF-8EC5-9D1FDB6E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2A690-4092-4195-AB8C-E16014C990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