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36434"/>
        <c:axId val="15837782"/>
      </c:barChart>
      <c:catAx>
        <c:axId val="42536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7782"/>
        <c:crosses val="autoZero"/>
        <c:auto val="1"/>
        <c:lblAlgn val="ctr"/>
        <c:lblOffset val="100"/>
        <c:noMultiLvlLbl val="0"/>
      </c:catAx>
      <c:valAx>
        <c:axId val="15837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36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967-B711-432D-BCA9-1369E5A3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9AA-4282-4D92-8933-74A31982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3A7-6923-4BE4-8864-756CA76F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F5D-87F5-46E4-943E-3CFBC6D3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DBB-E6CB-4F83-BDE7-5A9DB0F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CD1-60C9-4F65-9086-ABD6BA2F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C95-D47C-401E-B441-A8F10D4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54C-5C3D-48DB-BD18-B45DC2C0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475-53CB-468E-B9AD-FD4DC475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C2B-23DB-4226-8619-8F88331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469-5912-4979-B45D-8CAF526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9F1-990D-4C9F-99D7-EDE995F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568FE-40E4-48E7-A2D6-6A6B7B1253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