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13612"/>
        <c:axId val="35708231"/>
      </c:barChart>
      <c:catAx>
        <c:axId val="99113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8231"/>
        <c:crosses val="autoZero"/>
        <c:auto val="1"/>
        <c:lblAlgn val="ctr"/>
        <c:lblOffset val="100"/>
        <c:noMultiLvlLbl val="0"/>
      </c:catAx>
      <c:valAx>
        <c:axId val="35708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3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FB9-49A1-4FC2-B21B-CAFEA1A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BB8-BB8F-4E06-BBDA-5BB3A4BF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6C6-F24E-4540-AD53-BDE0F61D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DD7-BE6F-443A-A0DC-66ACD364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1AA-FD27-434B-B52C-8FB7C29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353-7B0E-4D38-BA29-7FDC8B9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90B-4617-40D1-B753-54CC7B9F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418-3181-47F4-9CCA-B3E47C8D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999-548F-4F43-8E60-DBB42BA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FC5-5BFB-4A35-BC63-9B241AD1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B04-8ACE-4046-BBEF-C2D16EA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5BB-EE47-48F9-BCD3-7BD61A0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384DE-A680-49E3-8041-C7122AD279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