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73628"/>
        <c:axId val="1307154"/>
      </c:barChart>
      <c:catAx>
        <c:axId val="59173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7154"/>
        <c:crosses val="autoZero"/>
        <c:auto val="1"/>
        <c:lblAlgn val="ctr"/>
        <c:lblOffset val="100"/>
        <c:noMultiLvlLbl val="0"/>
      </c:catAx>
      <c:valAx>
        <c:axId val="1307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73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EF5-6BE3-4B50-AF3D-23E3A22E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0E8-6395-4DA6-8686-127A09A1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2EB-8422-47BD-815E-63DAFE63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A709-DBBB-4567-9CA0-75AB7FA5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633-FC5B-4BF1-BA06-33DD736B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760-B756-4E7D-9228-48E46D29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698-60E2-4B6A-9845-1CBE9A07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3FF6-F7FF-415D-9DFD-D19D949A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B3C-0F4E-4FEC-8851-A3047186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F63-E6E4-4F34-B12D-9B692903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EEB-0EB0-4442-8C6F-63894452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D4CE-1E0B-45E5-B4E7-8C155B0D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761C3-878B-4F67-ADB3-A5696CB6B2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