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83104"/>
        <c:axId val="90215339"/>
      </c:barChart>
      <c:catAx>
        <c:axId val="29083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15339"/>
        <c:crosses val="autoZero"/>
        <c:auto val="1"/>
        <c:lblAlgn val="ctr"/>
        <c:lblOffset val="100"/>
        <c:noMultiLvlLbl val="0"/>
      </c:catAx>
      <c:valAx>
        <c:axId val="90215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83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B30-7A01-483E-9C12-2EE263F4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54C-AE72-4870-9D1F-6EEC658D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DD1-D77E-445E-A93A-6AF67591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042-A9A7-4D34-BC43-3DAEF49F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14D-512A-406C-9BC5-9B972ACE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709-E93F-4E8E-9E4D-7358E49D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44B-EE7F-4C26-B6C3-3D43E6D7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190-6676-4D0F-91F7-66544D92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243-97C7-4F7B-A708-47226689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C68-1F28-4A6D-B8B0-D4DD0454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080-E3E4-48A8-9CB0-C4CE5D31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DF6-30E8-4E35-9A89-83179C01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28E4A-F2F9-45C7-9C39-727B8DD2CA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