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307657"/>
        <c:axId val="97565173"/>
      </c:barChart>
      <c:catAx>
        <c:axId val="72307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65173"/>
        <c:crosses val="autoZero"/>
        <c:auto val="1"/>
        <c:lblAlgn val="ctr"/>
        <c:lblOffset val="100"/>
        <c:noMultiLvlLbl val="0"/>
      </c:catAx>
      <c:valAx>
        <c:axId val="97565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07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55A-C257-4FC2-8DD5-F758DE51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62FE-93B1-4463-A094-7D24D706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7204-0224-474D-90DE-65295CF3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60A7-E95A-4F5C-82D3-737D957D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B5AF-A04B-473C-A37B-796E1D6B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D5D-4176-45C3-BC3F-C640A884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4D8-8EFE-476C-9F31-E3DC32D1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D54-2C71-44AF-8776-28E6E294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595F-73AD-41E5-A536-AB13263D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26FF-77C5-497E-8173-251B26A8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716-F4D6-40A6-856E-5F6021B7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0EC-43B7-4F67-8A75-ACDBFA0D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CA0BA-6A7E-45CA-AAF6-14848DFA0B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