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2324"/>
        <c:axId val="75837455"/>
      </c:barChart>
      <c:catAx>
        <c:axId val="8502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37455"/>
        <c:crosses val="autoZero"/>
        <c:auto val="1"/>
        <c:lblAlgn val="ctr"/>
        <c:lblOffset val="100"/>
        <c:noMultiLvlLbl val="0"/>
      </c:catAx>
      <c:valAx>
        <c:axId val="75837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2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97A-0CF1-4385-9F20-731A1492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C71-F7F9-4590-B199-95D35FDD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EFE-C4DA-437E-8320-A60D0D4C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FA5-F508-47B9-9B68-DC6FD37C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9A4-524F-476F-A51E-21B890D7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8B3-9033-4C2D-AE4B-CA0AAEA2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97F-1DDC-44C4-A433-C506B98B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0C5-80B9-4C71-8D12-9CA6364A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610-FA17-41D2-BCD8-F947D99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7D1-1037-4126-B85C-ED000A8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079-7F79-467D-94C6-0D85D73E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844-E8D7-4653-8E9D-3792411C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D675C-907B-401E-9615-A71BA49283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