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50274"/>
        <c:axId val="75163186"/>
      </c:barChart>
      <c:catAx>
        <c:axId val="387502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63186"/>
        <c:crosses val="autoZero"/>
        <c:auto val="1"/>
        <c:lblAlgn val="ctr"/>
        <c:lblOffset val="100"/>
        <c:noMultiLvlLbl val="0"/>
      </c:catAx>
      <c:valAx>
        <c:axId val="75163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502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74CF-A781-48F4-8C31-5E234A64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072-ED09-446F-8777-FE77D4D4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7DE-4F55-412B-9A1A-DB8BA7D1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F9B3-2917-4B95-9A40-D23C11AF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1FF-F1FD-414D-811B-9BBC634D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968-0EBB-4C49-B0B6-B60CEE22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F1D8-938C-48E9-9D6F-B5D6CE70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0249-947C-4B96-9B69-BA1940C4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8F49-B6BB-4E02-BF6E-B378DEAB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463-1CC9-41CB-B2AB-91F9AA1C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119-E19F-4771-AD11-A6112E12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4423-FE56-4E6E-AA15-E3338EF3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92460-9695-4396-B694-CFC4CD5B32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