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52819"/>
        <c:axId val="38591055"/>
      </c:barChart>
      <c:catAx>
        <c:axId val="30052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91055"/>
        <c:crosses val="autoZero"/>
        <c:auto val="1"/>
        <c:lblAlgn val="ctr"/>
        <c:lblOffset val="100"/>
        <c:noMultiLvlLbl val="0"/>
      </c:catAx>
      <c:valAx>
        <c:axId val="38591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52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83D-0B96-45A4-B19A-D0ABDCAD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2F0-7C72-46F6-8C90-C8B34065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D30-8C13-4F64-A477-528EC2F1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D5B-706F-4BD9-AD16-D921EA9A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605-A46C-44FF-AF65-C346367E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9E6-8001-4C41-BA48-2A5F629C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43F-E6F4-4F5D-865B-134F254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D0E-2D10-431E-ADCB-0F40F9C3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FB0-D45A-4681-95C4-1467B86C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FCB-23EC-4E4D-BDAC-AC4A63D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7F0-C914-45FD-8233-35080ED7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205-BE5C-464C-B994-D374BFB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01050-F86A-451D-BD28-562227E435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