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885330"/>
        <c:axId val="76668172"/>
      </c:barChart>
      <c:catAx>
        <c:axId val="148853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668172"/>
        <c:crosses val="autoZero"/>
        <c:auto val="1"/>
        <c:lblAlgn val="ctr"/>
        <c:lblOffset val="100"/>
        <c:noMultiLvlLbl val="0"/>
      </c:catAx>
      <c:valAx>
        <c:axId val="766681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8853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0F42-E8A0-41D7-AEC1-639801340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9C79-DAA5-4854-BA8E-B9B9C493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8466-9DED-49BE-97A2-8CEAE78E6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8316-333C-481B-8F51-05671334E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05C2-78DB-4BA3-B623-B697366E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4318-818E-4F15-9366-E701A4E7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6000-E7FD-4C74-B97E-3DB49684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4F88-9DB2-4849-A934-DDB37F69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2F33-9921-4F59-9B40-6593EAF4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6C3E-0C25-4D41-960A-836E00CB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A5F8-E2AF-448B-B77D-A479B499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71DA-1BC2-468B-809C-35FB6F92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C6763A-C847-4CE8-8EB3-D467B71CFA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