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16725"/>
        <c:axId val="68198730"/>
      </c:barChart>
      <c:catAx>
        <c:axId val="95416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8730"/>
        <c:crosses val="autoZero"/>
        <c:auto val="1"/>
        <c:lblAlgn val="ctr"/>
        <c:lblOffset val="100"/>
        <c:noMultiLvlLbl val="0"/>
      </c:catAx>
      <c:valAx>
        <c:axId val="68198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6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39A-A4B1-45E8-AD43-BF2163C6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F1A-D3A2-4DD5-AB93-0141AE1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F01-AACF-4D3B-A55F-8DF13640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E11-96A5-4112-B5DA-A86F213D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917-FC1B-423F-911C-6FB68B69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D31-97A4-4FE5-B238-E486F34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722-9338-4FEB-AFA0-D063328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B5C-B638-4C11-97CD-EBFA630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EF2-F4AB-41E8-A705-F029FDA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560-09D2-44FF-AF1F-1B49973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628-B207-48BC-9D20-8BC4D20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C4A-BA6B-4201-8C4D-8E6C5F04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7AE07-96DA-4A0A-ADFE-709E7BD30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