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92813"/>
        <c:axId val="75779766"/>
      </c:barChart>
      <c:catAx>
        <c:axId val="81292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79766"/>
        <c:crosses val="autoZero"/>
        <c:auto val="1"/>
        <c:lblAlgn val="ctr"/>
        <c:lblOffset val="100"/>
        <c:noMultiLvlLbl val="0"/>
      </c:catAx>
      <c:valAx>
        <c:axId val="75779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92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299-56D2-4E15-8AB8-717A2809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ADE-61B0-4394-815F-80704014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911-57EB-4F52-827F-22BDDE0A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9B4-4CE8-42BF-9277-01FE9C5E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001-FBFD-43C7-91F5-C42ACE5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2D5-E83D-4100-B5F2-4ED26900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9EE-0851-48D2-A9E9-F4836412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D6C-6B73-4A04-942E-77A4B17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C74-E8C5-41F7-BBF4-C9552B7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58C-81B2-4860-B2DC-E903643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D51-E320-4829-8CA6-73EE2094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4CA-D2B7-4EF4-ABB7-AF288716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9DDC9-507B-4BE7-A53A-4D4687F013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