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485098"/>
        <c:axId val="34549766"/>
      </c:barChart>
      <c:catAx>
        <c:axId val="164850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549766"/>
        <c:crosses val="autoZero"/>
        <c:auto val="1"/>
        <c:lblAlgn val="ctr"/>
        <c:lblOffset val="100"/>
        <c:noMultiLvlLbl val="0"/>
      </c:catAx>
      <c:valAx>
        <c:axId val="345497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4850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3F93-9AAF-40BF-84BA-B892D467C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0DC4-AFED-4E86-9635-8E3A93995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E64D-F29B-4D8F-8B45-500A4F7D3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0BF3-9E03-4A35-97EE-82450AF1B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8D90-BF65-4D30-95E8-A37EE26D3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2313-F381-4763-B71C-33496974B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1BDB-C5FF-4A00-9809-9EDC5A74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0192-4E90-4D35-BB4D-DDE04BD5C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8115-DCB6-4BC4-BD13-A941AF4B2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9510-A5F6-47F5-89CB-8BB60643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EBA2-7856-4F92-A852-11AB8D74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074E-1E7A-4510-B9B3-AA3AA3BA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B6671A-64D2-42D3-A42A-BCD33E5213C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