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095396"/>
        <c:axId val="39070853"/>
      </c:barChart>
      <c:catAx>
        <c:axId val="760953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070853"/>
        <c:crosses val="autoZero"/>
        <c:auto val="1"/>
        <c:lblAlgn val="ctr"/>
        <c:lblOffset val="100"/>
        <c:noMultiLvlLbl val="0"/>
      </c:catAx>
      <c:valAx>
        <c:axId val="390708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0953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4C85-5684-4EF6-8632-4D3AA1BF3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9F70-1E91-4356-A94F-EDD9924B1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3EB9-AC58-4F85-8578-967AD0A93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5E1E-F135-4777-8366-862A164ED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C6FC-0319-4456-896A-15B1D9D02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1722-AB1B-463B-9BC1-5BFF54067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A1CC-F51A-4BE5-B1AF-AA0FD2C32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45DF-FD59-4A3A-9958-E1C37D1A0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EEC5-294D-473A-91B0-EFF7A5747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E276-EAB6-408A-B4E7-FFDD244D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5DBE-FE25-42C3-866F-52802D30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B433-024E-4030-9F28-814838BD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BDD2C3-EC6F-4C6A-BCD3-4CB0B96A411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