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524654"/>
        <c:axId val="6123985"/>
      </c:barChart>
      <c:catAx>
        <c:axId val="475246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3985"/>
        <c:crosses val="autoZero"/>
        <c:auto val="1"/>
        <c:lblAlgn val="ctr"/>
        <c:lblOffset val="100"/>
        <c:noMultiLvlLbl val="0"/>
      </c:catAx>
      <c:valAx>
        <c:axId val="61239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5246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29A5-FFCB-4494-A279-7064F792B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C3A5-1A43-41F6-A71B-B0D146F2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EDD3-8BF5-4C9F-95A9-2F9A26AFE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C223-3D7E-4415-879C-8D86DC0FB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81C1-4EE1-4B86-A3A5-087D161D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E1C2-1E91-4E96-B4BF-4334E911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F667-2261-44D7-A286-4B24D374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3226-BF26-4492-ABB4-3EEE49AB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C777-FE07-4BC4-B9FB-B673A00B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C918-5DDA-4060-BC73-EC9769A9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216A-11E1-48DE-9418-7BC9E51D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D0BE-CFB5-42AF-97C8-54DD7042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8C5379-B0DD-4EF0-B04A-020D0A4DBB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