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43231"/>
        <c:axId val="82987853"/>
      </c:barChart>
      <c:catAx>
        <c:axId val="72743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87853"/>
        <c:crosses val="autoZero"/>
        <c:auto val="1"/>
        <c:lblAlgn val="ctr"/>
        <c:lblOffset val="100"/>
        <c:noMultiLvlLbl val="0"/>
      </c:catAx>
      <c:valAx>
        <c:axId val="82987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43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6B0-AE27-4B12-89E2-75017BB0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EB9-998A-4F75-A5C6-0D4144B2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E53-21C0-4D51-AFE3-4DD955AA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4D3-D4CB-48C5-899C-1D99CD5D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171-4959-41C9-9ABC-9C94F4B8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050-20A7-48C5-BA37-00766295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C23-7952-4008-BE6C-F15A9B7D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958-9C23-4B83-ABD6-214299BF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CED-08EA-4250-9E34-B77DCB2C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C11-B43D-4D0D-875E-E0FE66C3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E61-2499-4EE6-983C-E6B78E1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045-6C76-497F-942C-8ACD3BB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D85A5-E49D-41E4-B4AA-E28260ADEE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