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938375"/>
        <c:axId val="49754590"/>
      </c:barChart>
      <c:catAx>
        <c:axId val="399383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54590"/>
        <c:crosses val="autoZero"/>
        <c:auto val="1"/>
        <c:lblAlgn val="ctr"/>
        <c:lblOffset val="100"/>
        <c:noMultiLvlLbl val="0"/>
      </c:catAx>
      <c:valAx>
        <c:axId val="497545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383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EBE-900F-4CBD-886E-C6AE4E97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F2E3-8A8E-4AC8-8EE7-115E4DCE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0069-0E01-4D37-93D6-2BDEF788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0223-57D9-47DF-A011-18AC548C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C161-0FBA-46A7-BE4F-5A6F3B35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EB0E-1FF9-406F-B592-F51FCAFB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7726-68C6-4399-A4BA-6CA860ED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83CA-16B1-4784-B773-2D9BA118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FA4-5850-4F43-9A12-3D623705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F403-72F7-46F4-ACFC-C6BDE8B1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88F-AE10-4006-8FCF-85BB4F0E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2BB1-A252-4ACE-A574-22D8CCFA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6DAD0-8A53-4F6B-8A3F-BBBECBD65D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