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26042"/>
        <c:axId val="184460"/>
      </c:barChart>
      <c:catAx>
        <c:axId val="9732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60"/>
        <c:crosses val="autoZero"/>
        <c:auto val="1"/>
        <c:lblAlgn val="ctr"/>
        <c:lblOffset val="100"/>
        <c:noMultiLvlLbl val="0"/>
      </c:catAx>
      <c:valAx>
        <c:axId val="184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BB6-2D48-4677-A740-5E0BDC7D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986-1BD7-4C13-8DEE-D53A7A20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914-1056-434B-B73A-C2B63A6F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3DF-86B4-483B-9A5E-8D2EB55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B0E-3DC4-4E17-9A35-9B441E5A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CEF-DEE1-4D50-B7FC-E9E810F8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BC6-2158-45C0-AD4E-93E1CE02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83A-C3B0-4D35-8A3A-A8B0842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0C1-F911-4A11-B0F3-BBF4C9F7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C33-40DB-42AE-90F1-317380D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164-3600-4314-BD1F-1498F54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BC6-0F18-453E-88CD-654FF05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E07A6-D740-41BA-98EF-38205858D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