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4946"/>
        <c:axId val="37291100"/>
      </c:barChart>
      <c:catAx>
        <c:axId val="9654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91100"/>
        <c:crosses val="autoZero"/>
        <c:auto val="1"/>
        <c:lblAlgn val="ctr"/>
        <c:lblOffset val="100"/>
        <c:noMultiLvlLbl val="0"/>
      </c:catAx>
      <c:valAx>
        <c:axId val="37291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4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E6D-7DB2-482B-ACF3-EED52AF8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4F5-8707-4B23-8EEC-54B31DC9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D41-AD72-4BEB-8EC6-8C6B4511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C984-7238-4001-9A12-B6DE6375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BFD-F8FF-4EC1-BB0C-D38A027C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DC8-2077-48BD-B3CC-7FD8DDA1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FCE-5032-4A7D-86C7-2C6EA49B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EFA-DFF6-4BCC-ACB6-D2E30FAC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F94-A7A0-4F64-883F-2C133B92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A18-6E13-468B-86E4-3C011842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C45-5914-4FBB-A97C-5A912CCA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EFC-B0F9-4D56-9E23-7D139FB3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71E01-9F87-463B-9D09-C2E3D4924C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