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37077"/>
        <c:axId val="60726459"/>
      </c:barChart>
      <c:catAx>
        <c:axId val="43637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26459"/>
        <c:crosses val="autoZero"/>
        <c:auto val="1"/>
        <c:lblAlgn val="ctr"/>
        <c:lblOffset val="100"/>
        <c:noMultiLvlLbl val="0"/>
      </c:catAx>
      <c:valAx>
        <c:axId val="60726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37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583-0373-4507-8B9B-0FCF8D2A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3B4-45F5-49D4-A9FF-3FAAA81D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EC4-8A7C-4024-AD29-73685E88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48E-1581-4D1A-B193-B369AF20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F6B-D5D1-4270-B98D-535417EB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DCD-AF8D-4FE2-975D-62659E9B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D59-5239-4966-946F-78DDE578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0F8-243C-4B10-9502-35FB2341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7D8-E6BE-471E-8BE0-F5FCD4AD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D44-B891-4485-AC28-4DCD86E2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11B-A231-44F9-8845-DBADC35B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632-C6BD-4256-8216-D1C4A51E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FBDC8-0D6E-411C-83B7-28CCAA8D9F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