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91048"/>
        <c:axId val="98685222"/>
      </c:barChart>
      <c:catAx>
        <c:axId val="82391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85222"/>
        <c:crosses val="autoZero"/>
        <c:auto val="1"/>
        <c:lblAlgn val="ctr"/>
        <c:lblOffset val="100"/>
        <c:noMultiLvlLbl val="0"/>
      </c:catAx>
      <c:valAx>
        <c:axId val="98685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91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BCF-6D89-4C7E-B046-15E12E0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EB1-7FEF-4C06-B777-4107E30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0AC-B487-4F85-B693-210C3601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3FB-7F25-4DBF-96D2-9A39B1BC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B33-98E5-4371-9DCD-C6656EAF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FA5-1EB4-44AB-8830-8B1CB32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8B5-E606-4861-A1F6-CE07D97D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282-EFF0-4AF8-91E4-90F8DAC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F8D-939E-4047-B3FA-F910CA7B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8EC-617D-41C1-B3C3-8F52C6E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7D6-BCA6-4B8C-A571-4485B6B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AF0-15BE-4DC6-A77A-0A67A4E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9137A-758B-4581-8970-8EAC88CB8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