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405885"/>
        <c:axId val="10414843"/>
      </c:barChart>
      <c:catAx>
        <c:axId val="940588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414843"/>
        <c:crosses val="autoZero"/>
        <c:auto val="1"/>
        <c:lblAlgn val="ctr"/>
        <c:lblOffset val="100"/>
        <c:noMultiLvlLbl val="0"/>
      </c:catAx>
      <c:valAx>
        <c:axId val="1041484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0588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51A1-F19A-409A-B35F-5C4D8287C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6A0A-82E1-4ED8-942A-631635668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3BC4-CC45-47DE-B8F9-B87CEEC5C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790D-1E2D-4D4B-9BB2-2E865ED19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5B5C-898A-48B0-9040-DA7BFEE53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6783-0ACC-4B14-8C8A-404E1C50F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1B38-14B1-40A5-90DA-AD8A05046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6C68-F901-4671-9349-E71706290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508F-D1CF-4572-A966-D20377A58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F20F-B94B-4EA4-8105-16EAFB8BF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BD78-7DE2-40F7-A133-BFAAEBDA9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BB7A-378C-4A31-BF89-E244FB8C1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98FB1D-61F5-4F64-8CC8-E84B8EF2769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