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17017"/>
        <c:axId val="81582202"/>
      </c:barChart>
      <c:catAx>
        <c:axId val="71917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82202"/>
        <c:crosses val="autoZero"/>
        <c:auto val="1"/>
        <c:lblAlgn val="ctr"/>
        <c:lblOffset val="100"/>
        <c:noMultiLvlLbl val="0"/>
      </c:catAx>
      <c:valAx>
        <c:axId val="81582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17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703-E6E9-4D51-A3D4-5695C420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F6B-ECC3-4ED9-8976-C8DFCBD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7D8-87ED-41D5-A89D-6269520B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66D-2845-497E-8AD1-253A8EAE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FB6-C49E-4046-B27B-8EF5C8B2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D82-B7BB-4A8A-8E72-A515BCE1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14F-ADDC-45CD-95D1-B603D27D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8ED-27E1-4DBA-9A5E-2718E888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0DD-9E0A-4A16-B4D1-85741EDE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FF1-E966-4640-AADC-7D26AAE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C61-2B42-4541-8143-1E82F2D3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2C7-8A22-4704-B6CB-D60DC01D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310F0-96C8-4E32-B03C-E345F4C109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