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092923"/>
        <c:axId val="74729251"/>
      </c:barChart>
      <c:catAx>
        <c:axId val="740929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29251"/>
        <c:crosses val="autoZero"/>
        <c:auto val="1"/>
        <c:lblAlgn val="ctr"/>
        <c:lblOffset val="100"/>
        <c:noMultiLvlLbl val="0"/>
      </c:catAx>
      <c:valAx>
        <c:axId val="747292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929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B21A-DB96-4B16-827D-EE2B9830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E730-447F-4BFA-A3B6-D9E2D0C5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B1B3-C0A0-4C0A-972A-17E18EA1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1D5C-F0A4-4319-9652-646197E3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D4F2-3076-453D-BE9D-1FB584D1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E4F8-C073-4B0E-A9CC-4CBBEF6B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042D-0386-429D-880F-F19FC3BE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5E95-7027-4853-A27B-71467ADD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4422-3357-43DF-87EE-8B82E257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156D-4EE8-4F36-90EF-CDD639C3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4572-923A-446D-A1F3-903B3114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1B28-6F1F-4E35-A837-C1AB68D9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98F53-F510-4C02-B544-30DAB39198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