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804435"/>
        <c:axId val="73167186"/>
      </c:barChart>
      <c:catAx>
        <c:axId val="148044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67186"/>
        <c:crosses val="autoZero"/>
        <c:auto val="1"/>
        <c:lblAlgn val="ctr"/>
        <c:lblOffset val="100"/>
        <c:noMultiLvlLbl val="0"/>
      </c:catAx>
      <c:valAx>
        <c:axId val="731671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044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086E-E075-40B8-AB35-EF08472D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DCEC-2D99-404F-A645-44DA77C1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58A1-8707-4EBB-AE6F-CEFD3E6A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F886-E165-45FF-AE21-F9F91B90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BF15-A850-4CD0-88EF-A4AE2ABE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4516-1050-4E76-B197-73C00D76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5F54-4831-4516-ADBB-705CD2A5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7F41-E423-4255-8714-467C2FB8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3B93-D9C5-424C-9059-C09F08E8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54AB-E5C1-4055-B3CC-85BDD2D7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912D-A5B5-4454-A96C-828AD7AE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4B34-725B-4B51-A56C-E472CFCA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4ABB7-38B6-47C9-A0EC-8FA60094B7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