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276686"/>
        <c:axId val="11911520"/>
      </c:barChart>
      <c:catAx>
        <c:axId val="532766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911520"/>
        <c:crosses val="autoZero"/>
        <c:auto val="1"/>
        <c:lblAlgn val="ctr"/>
        <c:lblOffset val="100"/>
        <c:noMultiLvlLbl val="0"/>
      </c:catAx>
      <c:valAx>
        <c:axId val="119115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2766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22B8-D481-4FE7-BBE4-4CD62C2EB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3AEF-5DB5-49F6-8D8A-DEC97E568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D39F-C898-4646-ACFB-8E75078EC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400A-785F-4B3D-B44E-FA54E7D89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32EE-ACCF-4206-83B6-EF2F4D7A1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CC16-1A78-498D-A128-C18F57741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02FF-7A93-4B70-84CC-C2BD53A2C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4C14-9124-4D5F-B659-1570B9D8B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E121-B483-420C-B14C-8CC529F81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4748-1469-4EE1-8EE5-55F965AE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1EEF-B56C-451B-91CA-5AE2894F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0ACF-C805-4C49-978D-4E6CDA0F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6C47AE-AE9C-43B6-8D4B-5FC242C0F0B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