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409396"/>
        <c:axId val="66646712"/>
      </c:barChart>
      <c:catAx>
        <c:axId val="224093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46712"/>
        <c:crosses val="autoZero"/>
        <c:auto val="1"/>
        <c:lblAlgn val="ctr"/>
        <c:lblOffset val="100"/>
        <c:noMultiLvlLbl val="0"/>
      </c:catAx>
      <c:valAx>
        <c:axId val="666467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093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7A5-A103-465C-AB82-BC6E6519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473D-7521-4F4F-982B-E0A9FE6F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AE4-8455-4E44-B39F-A70F8302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A9D2-7549-4D19-A42C-004FA6ED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101-6FA1-4D1A-9AB6-D25C53AC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4FB7-6A1A-448C-9D68-B35D38EF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220-AB46-4910-A683-C0FC7421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73A7-E214-439F-9A47-2D4B8414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97DB-5991-44A3-A97F-09AFACEE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7835-DE77-4AF3-9B5B-27980281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EAD-B9CC-471F-8E60-BDFEE6A7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0EB8-D657-457A-99AA-AA764323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972E8-CDFA-4964-B1CB-865E8FC044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