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951525"/>
        <c:axId val="47931283"/>
      </c:barChart>
      <c:catAx>
        <c:axId val="609515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31283"/>
        <c:crosses val="autoZero"/>
        <c:auto val="1"/>
        <c:lblAlgn val="ctr"/>
        <c:lblOffset val="100"/>
        <c:noMultiLvlLbl val="0"/>
      </c:catAx>
      <c:valAx>
        <c:axId val="479312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515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DD2B-37A6-487C-BCBD-5A21DEAF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86A9-BCDD-420B-BC55-881A3E03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134F-A12A-49B5-85C8-CD4BF894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C578-59DB-4B12-B47D-FEF7FBD4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459C-0FD7-4B7F-A46D-82A1D2FF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2424-ECA1-4582-92C0-27B2A628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BC8E-2DFB-4C64-AA26-EBA6276C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1D8E-27C4-4F4F-9C72-A34DE7AA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2220-C638-49E1-83A4-D09BFBF7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193F-B434-4F0F-98EB-1ABF8BEB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225D-14D4-4C8D-9BB3-D89541A5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F185-31D3-4908-BD36-E0F3D71C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1B37F-31F7-4B06-9954-5717E485C1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