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75110"/>
        <c:axId val="29752362"/>
      </c:barChart>
      <c:catAx>
        <c:axId val="57075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52362"/>
        <c:crosses val="autoZero"/>
        <c:auto val="1"/>
        <c:lblAlgn val="ctr"/>
        <c:lblOffset val="100"/>
        <c:noMultiLvlLbl val="0"/>
      </c:catAx>
      <c:valAx>
        <c:axId val="29752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75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8BD-A35B-4DF1-961B-F1FB10EF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E0E-3447-48B4-AC4A-72F390BF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EE8-725B-4207-8666-9678AC2D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590-07B4-4124-B2BD-27614729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0C3-3909-4212-BBF7-377FE84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4FF-4825-49BC-AC54-A110E61B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FC6-9FC4-42E9-8050-DED6CD8B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7D3-E2D5-4D05-A9E1-E9139126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391-D2EA-476B-82B4-2B3E4EA6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F80-350F-472B-BDE2-F55082B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D77-93A5-4CD4-9F83-A475D9E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B60-18DA-4842-B20F-AAD6BDB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D8C9-AEDD-4902-930D-D91543B23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