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2464229"/>
        <c:axId val="4781269"/>
      </c:barChart>
      <c:catAx>
        <c:axId val="5246422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81269"/>
        <c:crosses val="autoZero"/>
        <c:auto val="1"/>
        <c:lblAlgn val="ctr"/>
        <c:lblOffset val="100"/>
        <c:noMultiLvlLbl val="0"/>
      </c:catAx>
      <c:valAx>
        <c:axId val="478126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46422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9A8E6-933C-48F8-AEC6-1DA13328B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3A718-69CE-450C-934B-305926F39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4D4D9-DE7B-45B5-90C9-CC6E09A27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ED061-99D3-4CBA-9D30-88BD74309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A21F3-0660-465C-8BF5-E54ADB2AF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54E4D-F0BF-4171-ACFD-7747F5BC1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97C58-10BA-4C09-ADA3-7D8173805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6F3EE-CFC2-4A85-A9AA-FDAC4BA57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30F16-A176-496F-BB60-BFD1046D0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883E4-1658-4E50-8D3C-B8A9B05CE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51AF6-17B0-42FB-8C45-93CE10A7C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7415B-89EF-4067-A455-01B8317AF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AF6942-59B6-4775-BBF4-03CDF9108AE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