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65246"/>
        <c:axId val="92162836"/>
      </c:barChart>
      <c:catAx>
        <c:axId val="10965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62836"/>
        <c:crosses val="autoZero"/>
        <c:auto val="1"/>
        <c:lblAlgn val="ctr"/>
        <c:lblOffset val="100"/>
        <c:noMultiLvlLbl val="0"/>
      </c:catAx>
      <c:valAx>
        <c:axId val="92162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65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351-581D-49C0-B393-FFA018DC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EBC-6BE9-4519-8A8A-BF2C8714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6D9-CEB3-45F7-A10F-30F8AA38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ACF-0F91-4EA6-9E3A-31723E27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FD8-4457-4964-B082-10462C7B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65D-F3CF-432A-B33F-4CF7ED5B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E95-0EFF-4ED4-A87C-0CCC0BA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5C6-3924-40B0-B02F-3367F766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3A7-98AC-44AB-BADA-403E110B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97B-8949-4A51-BCD5-67017FA6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377-CEAD-4468-9297-85369BBA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ADF-FCD9-4CC8-B26A-2869DD4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8C442-EF19-4F3F-A532-D857F7A12D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