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441000"/>
            <a:ext cx="8229240" cy="25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384000"/>
              </a:lnSpc>
              <a:spcBef>
                <a:spcPts val="51075"/>
              </a:spcBef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441000"/>
            <a:ext cx="8229240" cy="25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384000"/>
              </a:lnSpc>
              <a:spcBef>
                <a:spcPts val="51075"/>
              </a:spcBef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441000"/>
            <a:ext cx="8229240" cy="25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384000"/>
              </a:lnSpc>
              <a:spcBef>
                <a:spcPts val="51075"/>
              </a:spcBef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441000"/>
            <a:ext cx="8229240" cy="25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384000"/>
              </a:lnSpc>
              <a:spcBef>
                <a:spcPts val="51075"/>
              </a:spcBef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441000"/>
            <a:ext cx="8229240" cy="25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384000"/>
              </a:lnSpc>
              <a:spcBef>
                <a:spcPts val="51075"/>
              </a:spcBef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441000"/>
            <a:ext cx="8229240" cy="25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384000"/>
              </a:lnSpc>
              <a:spcBef>
                <a:spcPts val="51075"/>
              </a:spcBef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441000"/>
            <a:ext cx="8229240" cy="25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384000"/>
              </a:lnSpc>
              <a:spcBef>
                <a:spcPts val="51075"/>
              </a:spcBef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441000"/>
            <a:ext cx="8229240" cy="25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384000"/>
              </a:lnSpc>
              <a:spcBef>
                <a:spcPts val="51075"/>
              </a:spcBef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441000"/>
            <a:ext cx="8229240" cy="25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384000"/>
              </a:lnSpc>
              <a:spcBef>
                <a:spcPts val="51075"/>
              </a:spcBef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441000"/>
            <a:ext cx="8229240" cy="25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384000"/>
              </a:lnSpc>
              <a:spcBef>
                <a:spcPts val="51075"/>
              </a:spcBef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808200 w 9143640"/>
              <a:gd name="textAreaRight" fmla="*/ 8335440 w 9143640"/>
              <a:gd name="textAreaTop" fmla="*/ 808200 h 6857640"/>
              <a:gd name="textAreaBottom" fmla="*/ 6049440 h 685764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384000"/>
              </a:lnSpc>
              <a:spcBef>
                <a:spcPts val="51075"/>
              </a:spcBef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 hidden="1"/>
          <p:cNvSpPr/>
          <p:nvPr/>
        </p:nvSpPr>
        <p:spPr>
          <a:xfrm>
            <a:off x="934920" y="0"/>
            <a:ext cx="625680" cy="77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65200" rIns="25560" tIns="770040" bIns="-57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am invi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12:26:07Z</dcterms:created>
  <dc:creator>Tor Lillqvist</dc:creator>
  <dc:description/>
  <dc:language>en-US</dc:language>
  <cp:lastModifiedBy>Tor Lillqvist</cp:lastModifiedBy>
  <dcterms:modified xsi:type="dcterms:W3CDTF">2007-03-29T12:48:27Z</dcterms:modified>
  <cp:revision>2</cp:revision>
  <dc:subject/>
  <dc:title>Slide 1</dc:title>
</cp:coreProperties>
</file>