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69367"/>
        <c:axId val="91859206"/>
      </c:barChart>
      <c:catAx>
        <c:axId val="13469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59206"/>
        <c:crosses val="autoZero"/>
        <c:auto val="1"/>
        <c:lblAlgn val="ctr"/>
        <c:lblOffset val="100"/>
        <c:noMultiLvlLbl val="0"/>
      </c:catAx>
      <c:valAx>
        <c:axId val="91859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69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0C8-9E9F-47D7-8C1D-B7CD7F50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ED0A-62ED-4496-987A-2BC157C9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A71-1949-4769-AD47-431C5F27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143-2737-460E-B5F0-5F570A92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0D7-C2D0-4797-B199-925AF043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DF9-F9EC-4D85-8E10-4E96B260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B70-2639-4604-A76B-403B6505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5BA-3721-47A3-8619-BF6A5975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A40-008C-4096-B8EE-D2965FD3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8E7-3FEF-43C2-9666-F075415D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1F6-B34D-4640-AC0B-18F2C86C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80D-90D7-4E97-994A-BB7CE32E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F53A4-C065-47F9-8C8F-E1D7D70EC1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